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move the slide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D3BF-83D5-46F0-BCD8-68A39DE872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首先得说，熬夜，这是每个玩魔兽世界的人必不可少的，就算是休闲玩家也可能会熬夜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B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同样如是，因为大多数系统在白天都是需要正常运行的，对于这个系统的维护（比如关闭服务器，升级，添加硬件等）都需要到晚上业务相对较为清闲的时候才能去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玩家反复地刷副本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玩家组队战场或者竞技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3F49-407C-425C-ACE7-789986CF9B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D10-F990-46A0-97FE-EA2675E4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AED-90A5-44CB-91B7-EF4EBD8B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C39-9F1D-4697-AFA0-D8ADB77C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FDC-0D41-4C7B-862D-CDAE4357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8D0F-A0CC-4700-87E4-2548730A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59C4-4229-442A-A9F3-EEE08FC6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8240-47CE-4A99-BC64-C0270F6F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6EFD-BEA9-4924-A5C7-2E512772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A5A3-D5BC-4E89-B758-360A0D11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6C9B-953C-4FA6-8B99-6C2ECBF7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D365-E164-4168-8A6A-927BF732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237-FE52-4756-886D-BACC772F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FC3B-A8E0-4F52-914E-FD4D7413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660B-0F9A-462D-9D31-9EC2F7E0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4B8B-D189-4CCF-9F86-C5C40257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7A12-66F8-447B-916F-1AF33FAA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520F-6FD9-48E3-A761-C89A18D9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9D42-7BAF-4A20-A97D-1A0777D3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C4C9-7A2A-4507-81E3-F9B8D065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53BC-0E94-4C2D-B1B6-8A533171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3ABF-7A95-4983-B5C4-E3A08764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CF19A-49EA-4EA1-ADCA-AFEA64CA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B48-4DFB-4421-98A8-9077C8E9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B4EF-2D8F-4DA1-A29A-8CE53F71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ADBA-1EE5-4229-8832-09EFDE28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BFA5-BF60-48AD-A1EC-38608C09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FB3EE-7D60-43DC-A65C-EDB862BD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ECC2B-7D29-40E3-B9A3-C3D65AF2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327F-3136-4A0E-834F-9A99EA6D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164F-80BC-46DE-B60A-F6611ED6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649-AB6A-4D18-A72F-E15A1C4D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BE2-D75F-4678-A81F-7830D635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9A8-E843-43A5-B1CB-1EE1D194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751-4EEB-455D-8A5C-0D508F66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F85-606F-45B0-A392-053B0FB7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C0A-B5D8-4F33-9E7F-6D22214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mbria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9D46-F0B3-4B04-BA08-B9F123469A58}" type="slidenum">
              <a:rPr b="0" lang="zh-CN" sz="1200" spc="-1" strike="noStrike">
                <a:solidFill>
                  <a:srgbClr val="898989"/>
                </a:solidFill>
                <a:latin typeface="Cambria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mbria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BDE6-CDC9-43C4-A808-5A52232217C9}" type="slidenum">
              <a:rPr b="0" lang="zh-CN" sz="1200" spc="-1" strike="noStrike">
                <a:solidFill>
                  <a:srgbClr val="898989"/>
                </a:solidFill>
                <a:latin typeface="Cambria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mbria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EFD4-0007-4F9B-9FC0-85054A0A8865}" type="slidenum">
              <a:rPr b="0" lang="zh-CN" sz="1200" spc="-1" strike="noStrike">
                <a:solidFill>
                  <a:srgbClr val="898989"/>
                </a:solidFill>
                <a:latin typeface="Cambria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racle.com/" TargetMode="External"/><Relationship Id="rId2" Type="http://schemas.openxmlformats.org/officeDocument/2006/relationships/hyperlink" Target="http://www.eygle.com/" TargetMode="External"/><Relationship Id="rId3" Type="http://schemas.openxmlformats.org/officeDocument/2006/relationships/hyperlink" Target="http://www.itpub.net/" TargetMode="External"/><Relationship Id="rId4" Type="http://schemas.openxmlformats.org/officeDocument/2006/relationships/hyperlink" Target="http://www.chinaunix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172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1b36"/>
                </a:solidFill>
                <a:latin typeface="Maiandra GD"/>
              </a:rPr>
              <a:t>生活，事业一个不能少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7240" y="2642760"/>
            <a:ext cx="667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mbria"/>
              </a:rPr>
              <a:t>- </a:t>
            </a:r>
            <a:r>
              <a:rPr b="0" lang="zh-CN" sz="2800" spc="-1" strike="noStrike">
                <a:solidFill>
                  <a:srgbClr val="898989"/>
                </a:solidFill>
                <a:latin typeface="Cambria"/>
              </a:rPr>
              <a:t>该怎样走自己的路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什么是数据库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ybase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DB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什么是</a:t>
            </a: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DBA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Database Administrator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DBA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的日常工作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Developer and DB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为什么需要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DB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操作系统</a:t>
            </a: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+</a:t>
            </a: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数据库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90840" indent="-26568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如果可以，请换用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90840" indent="-26568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buntu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90840" indent="-26568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penSuS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90840" indent="-26568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edor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Uni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90840" indent="-26568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BM AIX, HP-UNIX, Sun Solar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90840" indent="-26568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pple Mac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魔兽世界与</a:t>
            </a: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DBA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64" name="内容占位符 3" descr="oralogo_small.gif"/>
          <p:cNvPicPr/>
          <p:nvPr/>
        </p:nvPicPr>
        <p:blipFill>
          <a:blip r:embed="rId1"/>
          <a:stretch/>
        </p:blipFill>
        <p:spPr>
          <a:xfrm>
            <a:off x="4438800" y="3651120"/>
            <a:ext cx="3595680" cy="10670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4" descr="hssnap00018.jpg"/>
          <p:cNvPicPr/>
          <p:nvPr/>
        </p:nvPicPr>
        <p:blipFill>
          <a:blip r:embed="rId2"/>
          <a:stretch/>
        </p:blipFill>
        <p:spPr>
          <a:xfrm>
            <a:off x="1116000" y="1706400"/>
            <a:ext cx="33465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魔兽世界与</a:t>
            </a: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DBA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熬夜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副本累积经验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反复的工作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插件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工具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原始界面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- SQL*PLU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插件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- SQL Develope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宏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脚本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攻略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网络资源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LUA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http://www.lua.org/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有用的资源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Cambria"/>
                <a:hlinkClick r:id="rId1"/>
              </a:rPr>
              <a:t>www.oracle.co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otn.oracle.co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Cambria"/>
                <a:hlinkClick r:id="rId2"/>
              </a:rPr>
              <a:t>www.eygle.co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Cambria"/>
                <a:hlinkClick r:id="rId3"/>
              </a:rPr>
              <a:t>www.itpub.n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mbria"/>
              </a:rPr>
              <a:t>linux</a:t>
            </a:r>
            <a:r>
              <a:rPr b="0" i="1" lang="en-US" sz="3200" spc="-1" strike="noStrike">
                <a:solidFill>
                  <a:srgbClr val="000000"/>
                </a:solidFill>
                <a:latin typeface="Cambria"/>
              </a:rPr>
              <a:t>.vbird.or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Cambria"/>
                <a:hlinkClick r:id="rId4"/>
              </a:rPr>
              <a:t>www.chinaunix.n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大学生活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我的职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racle Database Technical Consulta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我的大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北京外交学院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游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你们的大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在最有价值的时间内做最重要的事情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2" name="图片 3" descr="oralogo_small.gif"/>
          <p:cNvPicPr/>
          <p:nvPr/>
        </p:nvPicPr>
        <p:blipFill>
          <a:blip r:embed="rId1"/>
          <a:stretch/>
        </p:blipFill>
        <p:spPr>
          <a:xfrm>
            <a:off x="7143840" y="2357280"/>
            <a:ext cx="146664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应试教育还是素质教育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应试中包含素质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在一段时间中，为了一个目标努力，并且无限地付出时间和精力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考研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兴趣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最重要的成功因素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兴趣引发激情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选择工作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外企？国企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甲方？乙方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薪酬？环境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打工？创业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不要抱怨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找工作的时候要有工作经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我的老板什么都不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为什么客户这么苛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为什么房价这么高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为什么油还在涨价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生活就是这样，接受或者拒绝，但是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不要抱怨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阔步向前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接受培训，获得认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自我锻炼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大丈夫能屈能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抓住机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关系网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素质，注意素质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英文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网络资源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如何在论坛里混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如何找资料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分享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DBA</a:t>
            </a: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的钱途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国内的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DBA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们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rac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ibaba &amp; Taoba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商业银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BA</a:t>
            </a: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的平均工资最高（平均月薪达到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8400</a:t>
            </a: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元）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0:17:09Z</dcterms:created>
  <dc:creator>Leyi Zhang</dc:creator>
  <dc:description/>
  <dc:language>en-US</dc:language>
  <cp:lastModifiedBy>Leyi Zhang</cp:lastModifiedBy>
  <dcterms:modified xsi:type="dcterms:W3CDTF">2008-11-04T13:47:45Z</dcterms:modified>
  <cp:revision>28</cp:revision>
  <dc:subject/>
  <dc:title>把生活过成段子</dc:title>
</cp:coreProperties>
</file>